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583C-8484-4C70-B6DE-63F54168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439E-37A2-46F7-9F46-80A9E02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46CC-DE6A-400E-9BAE-B75403AC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52A7-A7A6-4AD9-AC58-93600DD2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0D1-31AB-4761-AF87-E5061F3F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0E04-A0E3-4B14-B326-1F963A2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EB36-B84C-411F-B788-79732532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9E8F-93D3-46B4-8DE6-F0522532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47C7-73A7-4D23-8258-0E276738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5C78-7785-4900-B244-D5D88473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B96E-22CF-424C-A693-EEED0515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CE7D-D9D1-40C9-8D8F-556AB68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1863-C100-4AFD-8699-59345E0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046B-35D2-4E4B-8B19-3A03302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EF1A-D62F-41A1-AC2A-ADD80808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0AE9-EF80-4F67-A7D1-3911D4CD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4BAC-EAEC-4A75-9FD5-B294B7FD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C53B-32CE-4A73-8649-5AEF739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6BD9-A191-4863-A3F1-9CC2BBB2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7D74-3C45-405A-BFB2-05F877A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1A08-468F-4D30-9274-D70B3398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EC7E-1DC8-4739-A25E-1AFA481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E36E-541C-470B-A591-E2CDF2C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B3CB-05EF-4E22-8481-415E432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632-E85B-41F6-8038-37A3A90BD7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54C-CA0D-4465-8C02-0090ECC96B4E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bae8ba"/>
                </a:solidFill>
                <a:latin typeface="Garamond"/>
              </a:rPr>
              <a:t>Janusz Korczak</a:t>
            </a:r>
            <a:br>
              <a:rPr sz="7200"/>
            </a:br>
            <a:r>
              <a:rPr b="1" lang="pl-PL" sz="4800" spc="-1" strike="noStrike">
                <a:solidFill>
                  <a:srgbClr val="bae8ba"/>
                </a:solidFill>
                <a:latin typeface="Garamond"/>
              </a:rPr>
              <a:t>Henryk Goldszmit</a:t>
            </a:r>
            <a:r>
              <a:rPr b="1" lang="pl-PL" sz="44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01" name="Picture 5" descr="korczak"/>
          <p:cNvPicPr/>
          <p:nvPr/>
        </p:nvPicPr>
        <p:blipFill>
          <a:blip r:embed="rId1"/>
          <a:stretch/>
        </p:blipFill>
        <p:spPr>
          <a:xfrm>
            <a:off x="2843280" y="1916280"/>
            <a:ext cx="3243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bae8ba"/>
                </a:solidFill>
                <a:latin typeface="Garamond"/>
              </a:rPr>
              <a:t>Tren ku czci Janusza Korczak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51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Dokąd z dziećmi odchodzisz współczesny Sokratesie? 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Któryś zmyślał baśnie, sam stałeś się legendą. 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Któryś oszukał dzieci, że śmierć je rychła nie czeka. 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Tobie dobroć i męstwo śmiertelną koszulę przędą. 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I pamięć o tobie wzbiera jak rozlewista rze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korczak1"/>
          <p:cNvPicPr/>
          <p:nvPr/>
        </p:nvPicPr>
        <p:blipFill>
          <a:blip r:embed="rId1"/>
          <a:stretch/>
        </p:blipFill>
        <p:spPr>
          <a:xfrm>
            <a:off x="179280" y="1424160"/>
            <a:ext cx="39355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ae8ba"/>
                </a:solidFill>
                <a:latin typeface="Garamond"/>
              </a:rPr>
              <a:t>Z kogo czerpał… 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Garamond"/>
              </a:rPr>
              <a:t>Czytając sławnych pedagogów, notuje: </a:t>
            </a:r>
            <a:r>
              <a:rPr b="0" i="1" lang="pl-PL" sz="4000" spc="-1" strike="noStrike">
                <a:solidFill>
                  <a:srgbClr val="ffffff"/>
                </a:solidFill>
                <a:latin typeface="Garamond"/>
              </a:rPr>
              <a:t>Spencer, Pestalozzi, Fröbel itp. Kiedyś i moje nazwisko znajdzie się w tym szeregu</a:t>
            </a:r>
            <a:r>
              <a:rPr b="0" lang="pl-PL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O dzieciach powie, że są odkrytą przez Pestalozziego, Fröbla i Spencera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nieznaną połową ludzkośc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korzcak_chestnut"/>
          <p:cNvPicPr/>
          <p:nvPr/>
        </p:nvPicPr>
        <p:blipFill>
          <a:blip r:embed="rId1"/>
          <a:stretch/>
        </p:blipFill>
        <p:spPr>
          <a:xfrm>
            <a:off x="6948360" y="260280"/>
            <a:ext cx="1463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91551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Janusz Korczak był prekursorem walki o prawa dziecka. Posiadał znakomite wyczucie psychiki dziecięcej, przyjmował postawę pełną szacunku i zaufania do dziecka. Domagał się uznania dziecka za pełnowartościowego człowieka od chwili narodzin i na każdym etapie swego istnienia. Uważał, że dziecko ma prawo być sobą, być takim, jakim jes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Poglądy te znalazły odbicie w nowoczesnym </a:t>
            </a:r>
            <a:r>
              <a:rPr b="1" lang="pl-PL" sz="2800" spc="-1" strike="noStrike">
                <a:solidFill>
                  <a:srgbClr val="c00000"/>
                </a:solidFill>
                <a:latin typeface="Garamond"/>
              </a:rPr>
              <a:t>antyautorytarnym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systemie wychowania, który respektował potrzeby i dążenia dziecka, a zarazem skłaniał dziecko do pracy nad sob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koncepcji wychowania Korczaka dziecko nie jest spolegliwym przedmiotem wychowania, ale odgrywa najważniejszą rolę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228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Przekazał apel do wychowawców, by zatroszczyli się o takie prawa dziecka, ja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szacunku (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dla niewiedzy, łez i dla własnych słabości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miłości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tajemnic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samostanowienia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(prawo antytezy, do wypowiadania własnych myśli, do życia własnym wysiłkiem i własną aktywnością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własności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własnego rozwoju i dojrzewania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ruchu, do zabawy, do pracy i badania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awo do sprawiedliwości w życi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zeciwstawiał się rozpowszechnionemu w ówczesnej praktyce pedagogicznej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wpajaniu dyscypliny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, wykluczał kary cielesne, potępiał praktyki zawstydzania dzie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Przymus zastąpić przez dobrowolne i świadome przystosowanie się jednostki do form życia zbiorowe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6" descr="g"/>
          <p:cNvPicPr/>
          <p:nvPr/>
        </p:nvPicPr>
        <p:blipFill>
          <a:blip r:embed="rId1"/>
          <a:stretch/>
        </p:blipFill>
        <p:spPr>
          <a:xfrm>
            <a:off x="5362560" y="4000680"/>
            <a:ext cx="3554280" cy="25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"/>
          <p:cNvPicPr/>
          <p:nvPr/>
        </p:nvPicPr>
        <p:blipFill>
          <a:blip r:embed="rId2"/>
          <a:stretch/>
        </p:blipFill>
        <p:spPr>
          <a:xfrm>
            <a:off x="1168560" y="4000680"/>
            <a:ext cx="4051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roces wychowania musi wychodzić od dziecka, od jego podstawowych potrzeb i powinien być dostosowany do jego naturalnych faz rozwoj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Korczak wymaga jednak, aby dzieci wczuwały się też w sytuacje wychowawcy, pomagały mu, współdziałały z nim. Uważał, że to czy nauczyciel będzie zły czy dobry zależy również w niemałym stopniu od dzie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Czyni dzieci współodpowiedzialnymi za rezultaty wychowania, tym samym stawia na równi z dorosłymi jako drugą, równoprawną stronę procesu wychowani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Proponował system zachęt i trzy zasady pedagogicz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spółgospodarzenie –dzięki tzw. dyżurom Dom Sierot funkcjonował na zasadzie niemal całkowitej samoobsług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spółzarządzanie –Rada Samorządowa, Sąd Koleżeński i Sejm Domu Sierot. Korczak dał dzieciom prawo w porozumieniu z dorosłymi. do ustalania zasad normujących podstawowe dziedziny życia „zakładu”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oddziaływanie opinii społecznej –wyroki sądowe dzieci, plebiscy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swojej pracy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Dziecko w rod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inie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uczy rodziców patrzeć i widzieć, śledzić i rozumieć najdrobniejsze nawet odruchy i reakcje dzieci, odczytywać ich se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Analizuje typowe błędy wychowania domowego. (niezrozumienie dziecka, niedostrzeganie jego przeżyć i nieliczenie się z tymi przeżyciami= byle jakie załatwianie, a nie rozwiązywanie problemów wychowawczych.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Korcza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ae8ba"/>
                </a:solidFill>
                <a:latin typeface="Garamond"/>
              </a:rPr>
              <a:t>Według Korczaka dobry wychowawca- opiekun musi spełnić przede wszystkim podstawowy wymóg, jakim jest poznanie samego siebie.</a:t>
            </a:r>
            <a:r>
              <a:rPr b="1" lang="pl-PL" sz="40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pl-PL" sz="3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ądź sobą - szukaj własnej drogi. Poznaj siebie, zanim zechcesz dzieci poznać. Zdaj sobie sprawę z tego, do czego sam jesteś zdolny, zanim dzieciom poczniesz wykreślać zakres ich praw i obowiązków. Ze wszystkich sam jesteś dzieckiem, które musisz poznać, wychować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i wykształcić przede wszystkim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bae8ba"/>
                </a:solidFill>
                <a:latin typeface="Times New Roman"/>
              </a:rPr>
              <a:t>Międzynarodowa literatura poświęcona Januszowi Korczakowi nadaje mu zaszczytne przydomki:</a:t>
            </a:r>
            <a:r>
              <a:rPr b="1" lang="pl-PL" sz="40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olski Pestalozz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uczyciel z powołania i miłośc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edagog rzeczywistości i sn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ionier idącego z duchem czasu wychowan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Bohater rzeczywistośc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ierwszy prezydent republiki dziecięcej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korczak"/>
          <p:cNvPicPr/>
          <p:nvPr/>
        </p:nvPicPr>
        <p:blipFill>
          <a:blip r:embed="rId1"/>
          <a:stretch/>
        </p:blipFill>
        <p:spPr>
          <a:xfrm>
            <a:off x="6948360" y="1773360"/>
            <a:ext cx="180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ae8ba"/>
                </a:solidFill>
                <a:latin typeface="Garamond"/>
              </a:rPr>
              <a:t>Jednym z podstawowych zadań opiekuna – wychowawcy jest wspieranie rozwoju wychowanka:</a:t>
            </a:r>
            <a:endParaRPr b="1" lang="en-US" sz="2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Mogę stworzyć tradycje prawdy, ładu, pracowitości, uczciwości, szczerości, ale nie przerobię żadnego z dzieci na inne, niż jest. Brzoza pozostanie brzozą, dąb dębem, łopuch łopuchem. Mogę budzić to, co drzemie w duszy, nie mogę nic stworzyć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korczak3"/>
          <p:cNvPicPr/>
          <p:nvPr/>
        </p:nvPicPr>
        <p:blipFill>
          <a:blip r:embed="rId1"/>
          <a:stretch/>
        </p:blipFill>
        <p:spPr>
          <a:xfrm>
            <a:off x="5219640" y="4292640"/>
            <a:ext cx="26132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Podkreślał wychowawczą rolę teatru. Domagał się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pierwiastka artystycznego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sztuce dla dzie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a najważniejszą pomoc w kształtowaniu osobowości dziecka uważał jednak książkę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Angażował się w działalność bezpłatnych czytelni, które powstawały z inicjatywy Warszawskiego Towarzystwa Dobroczynnoś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pw_A035P01S"/>
          <p:cNvPicPr/>
          <p:nvPr/>
        </p:nvPicPr>
        <p:blipFill>
          <a:blip r:embed="rId1"/>
          <a:stretch/>
        </p:blipFill>
        <p:spPr>
          <a:xfrm>
            <a:off x="5580000" y="5084640"/>
            <a:ext cx="2195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latach 1926- 1930 redagował </a:t>
            </a:r>
            <a:r>
              <a:rPr b="1" i="1" lang="pl-PL" sz="2800" spc="-1" strike="noStrike">
                <a:solidFill>
                  <a:srgbClr val="ffffff"/>
                </a:solidFill>
                <a:latin typeface="Garamond"/>
              </a:rPr>
              <a:t>Mały Przegląd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- eksperymentalne, pierwsze czasopismo redagowane wraz z dzieć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Prowadził szeroką działalność popularyzatorsk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obronie praw dziecka za pośrednictwem rad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grudniu 1934 rozpoczął cykl audycji radiowych- gadaninek Starego Doktora, które cieszyły się wielką popularności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Swoje zasady wychowawcze wykładał w pismach pedagogicznych, w Instytucie Pedagogiki Specjalne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i w Wolnej Wszechnicy Polskiej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7921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Na dorobek pisarski Korczaka (literacki, publicystyczny i naukowy) składa się z ponad 20 książek, ponad 1400 tekstów drukowany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około 100 pismach, cenne inedita (ok. 200, m.in. pisany w getcie pamiętn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Prace z dziedziny pedagogiki, np.: Momenty wychowawcze, Jak kochać dzieci, Prawo dziecka do szacunku, Wybór pism pedagogicznych, Wybór pism, Pisma wybra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Najbardziej znane i popularne: Król Maciuś Pierwszy i Król Maciuś na wyspie bezludnej, Kajtuś czarodziej, Mośki, Joski i Sru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24" descr="20662"/>
          <p:cNvPicPr/>
          <p:nvPr/>
        </p:nvPicPr>
        <p:blipFill>
          <a:blip r:embed="rId1"/>
          <a:stretch/>
        </p:blipFill>
        <p:spPr>
          <a:xfrm>
            <a:off x="7702560" y="4149720"/>
            <a:ext cx="1441440" cy="204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754b"/>
          <p:cNvPicPr/>
          <p:nvPr/>
        </p:nvPicPr>
        <p:blipFill>
          <a:blip r:embed="rId2"/>
          <a:stretch/>
        </p:blipFill>
        <p:spPr>
          <a:xfrm>
            <a:off x="7746840" y="1125360"/>
            <a:ext cx="13971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ae8ba"/>
                </a:solidFill>
                <a:latin typeface="Garamond"/>
              </a:rPr>
              <a:t>Został doceniony!!!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W 1978 powstał Międzynarodowy Komitet im. Korczak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W 1993 utworzono Ośrodek Dokumentacji i Badań Korczakian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W Zielonej Górze działa od 1961 roku drużyna harcerska Korczakowcy, nosząca imię Starego Doktor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2006 w Warszawie stanął pomnik Janusza Korczaka w pobliżu Pałacu Kultury i Nauki, wcześniej przed dawnym Domem Sierot dla dzieci żydowskich w W-wie oraz na cmentarzu żydowsk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We Wrocławiu funkcjonuje Wojewódzkie Centrum Pediatryczne im. Janusza Korczak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Dom dziecka im. Janusza Korczaka w Gdańsku-Oliwi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W 1990 Andrzej Wajda wyreżyserował dramat </a:t>
            </a:r>
            <a:r>
              <a:rPr b="1" i="1" lang="pl-PL" sz="2400" spc="-1" strike="noStrike">
                <a:solidFill>
                  <a:srgbClr val="ffffff"/>
                </a:solidFill>
                <a:latin typeface="Garamond"/>
              </a:rPr>
              <a:t>Korcz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I wiele,  wiele  innych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plik1_d_14"/>
          <p:cNvPicPr/>
          <p:nvPr/>
        </p:nvPicPr>
        <p:blipFill>
          <a:blip r:embed="rId1"/>
          <a:stretch/>
        </p:blipFill>
        <p:spPr>
          <a:xfrm>
            <a:off x="179280" y="189000"/>
            <a:ext cx="1258920" cy="141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05020013_klein"/>
          <p:cNvPicPr/>
          <p:nvPr/>
        </p:nvPicPr>
        <p:blipFill>
          <a:blip r:embed="rId2"/>
          <a:stretch/>
        </p:blipFill>
        <p:spPr>
          <a:xfrm>
            <a:off x="7870680" y="4724280"/>
            <a:ext cx="12733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450px-Warszawa_pomnik_Janusz_Korczak_02"/>
          <p:cNvPicPr/>
          <p:nvPr/>
        </p:nvPicPr>
        <p:blipFill>
          <a:blip r:embed="rId1"/>
          <a:stretch/>
        </p:blipFill>
        <p:spPr>
          <a:xfrm>
            <a:off x="0" y="836640"/>
            <a:ext cx="4513320" cy="602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war_korczak_1"/>
          <p:cNvPicPr/>
          <p:nvPr/>
        </p:nvPicPr>
        <p:blipFill>
          <a:blip r:embed="rId2"/>
          <a:stretch/>
        </p:blipFill>
        <p:spPr>
          <a:xfrm>
            <a:off x="4994280" y="0"/>
            <a:ext cx="4149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ae8ba"/>
                </a:solidFill>
                <a:latin typeface="Garamond"/>
              </a:rPr>
              <a:t>Twórcę poznaje się po jego dziele…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14840" y="1928520"/>
            <a:ext cx="5572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Garamond"/>
              </a:rPr>
              <a:t>Dziecko chce być dobr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Garamond"/>
              </a:rPr>
              <a:t>Jeśli nie umie – naucz…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Garamond"/>
              </a:rPr>
              <a:t>Jeśli nie wie – wytłumacz…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ffffff"/>
                </a:solidFill>
                <a:latin typeface="Garamond"/>
              </a:rPr>
              <a:t>Jeśli nie może – pomó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Korczak2"/>
          <p:cNvPicPr/>
          <p:nvPr/>
        </p:nvPicPr>
        <p:blipFill>
          <a:blip r:embed="rId1"/>
          <a:stretch/>
        </p:blipFill>
        <p:spPr>
          <a:xfrm>
            <a:off x="179280" y="2714760"/>
            <a:ext cx="346392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W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idzimy dzieci w burzliwych przejawach radośc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i smutku, gdy się różnią od nas. Nie dostrzegamy pogodnych nastrojów, cichych zdumień, głębokich wzruszeń, bolesnych zdziwień, jątrzących podejrzeń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i upokarzających wątpliwości, w których są do nas podob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Prawdziwym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jest nie tylko dziecko skaczące na jednej nodze, ale i roztrząsające tajemnice prawdziwej bajki życi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ae8ba"/>
                </a:solidFill>
                <a:latin typeface="Garamond"/>
              </a:rPr>
              <a:t>20 reguł wychowania dzieci- Janusz Korczak</a:t>
            </a:r>
            <a:br>
              <a:rPr sz="4000"/>
            </a:b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2995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. Nie psuj mnie. Dobrze wiem, że nie powinienem mieć tego wszystkiego, czego się domagam. To tylko próba z mojej strony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2. Nie bój się stanowczości. Właśnie tego potrzebuję - poczucia bezpieczeństw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3. Nie bagatelizuj moich złych nawyków. Tylko Ty możesz mi pomóc zwalczyć zło, póki jest to jeszcze w ogóle możliwe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4. Nie rób ze mnie większego dziecka, niż jestem. To sprawia, że przyjmuję postawę głupio dorosłą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5. Nie zwracaj mi uwagi przy innych ludziach, jeśli nie jest to absolutnie konieczne. O wiele bardziej przejmuję się tym, co mówisz, jeśli rozmawiamy w cztery ocz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6. Nie chroń mnie przed konsekwencjami. czasami dobrze jest nauczyć się rzeczy bolesnych i nieprzyjemnych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7. Nie wmawiaj mi, że błędy, które popełniam, są grzechem. To zagraża mojemu poczuciu wartości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8. Nie przejmuj się za bardzo, gdy mówię, że Cię nienawidzę. To nie Ty jesteś moim wrogiem, lecz Twoja miażdżąca przewaga!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9. Nie zwracaj zbytniej uwagi na moje drobne dolegliwości. Czasami wykorzystuję je, by przyciągnąć Twoją uwagę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0. Nie zrzędź. W przeciwnym razie muszę się przed Tobą bronić i robię się głuch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1. Nie dawaj mi obietnic bez pokrycia. Czuję się przeraźliwie tłamszony, kiedy nic, z tego wszystkiego nie wychodzi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2. Nie zapominaj, że jeszcze trudno mi jest precyzyjnie wyrazić myśli. To dlatego nie zawsze się rozumiemy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3. Nie sprawdzaj z uporem maniaka mojej uczciwości. Zbyt łatwo strach zmusza mnie do kłamstwa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Garamond"/>
              </a:rPr>
              <a:t>KIM JEST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Garamond"/>
              </a:rPr>
              <a:t>JANUSZ  KORCZAK??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235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4. Nie bądź niekonsekwentny. To mnie ogłupia i wtedy tracę całą moją wiarę w Ciebi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5. Nie odtrącaj mnie, gdy dręczę Cię pytaniami. Może się wkrótce okazać, że zamiast prosić Cię o wyjaśnienie, poszukam ich gdzie indziej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6. Nie wmawiaj mi, że moje lęki są głupie. One po prostu są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7. Nie rób z siebie nieskazitelnego ideału. Prawda na Twój temat byłaby w przyszłości nie do zniesienia. Nie wyobrażaj sobie, iż przepraszając mnie, stracisz autorytet. Za uczciwą grę umiem podziękować miłością,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o jakiej nawet ci się nie śnił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8. Nie zapominaj, że uwielbiam wszelkiego rodzaju eksperymenty. To po prostu mój sposób na życie, więc przymknij na to oczy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Garamond"/>
              </a:rPr>
              <a:t>19. Nie bądź ślepy i przyznaj, że ja też rosnę. Wiem, jak trudno dotrzymać mi kroku w tym galopie, ale zrób, co możesz, żeby nam się to udał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00000"/>
                </a:solidFill>
                <a:latin typeface="Garamond"/>
              </a:rPr>
              <a:t>20. Nie bój się miłości. Nigdy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Garamond"/>
              </a:rPr>
              <a:t>                                                   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ae8ba"/>
                </a:solidFill>
                <a:latin typeface="Garamond"/>
              </a:rPr>
              <a:t>O Korczaku: 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Maria Falkowska,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Kalendarz życia, działalności i twórczości Janusza Korczaka,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Warszawa 198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orbert Wójtowicz,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Istota ludzka o kryształowym serc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, Wrocław 200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Stefan Wołoszyn,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Korczak,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Warszawa 197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korczak_illustration"/>
          <p:cNvPicPr/>
          <p:nvPr/>
        </p:nvPicPr>
        <p:blipFill>
          <a:blip r:embed="rId1"/>
          <a:stretch/>
        </p:blipFill>
        <p:spPr>
          <a:xfrm>
            <a:off x="6572160" y="0"/>
            <a:ext cx="2363760" cy="22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us05_01"/>
          <p:cNvPicPr/>
          <p:nvPr/>
        </p:nvPicPr>
        <p:blipFill>
          <a:blip r:embed="rId2"/>
          <a:stretch/>
        </p:blipFill>
        <p:spPr>
          <a:xfrm>
            <a:off x="642960" y="142920"/>
            <a:ext cx="12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rostokąt 1"/>
          <p:cNvSpPr/>
          <p:nvPr/>
        </p:nvSpPr>
        <p:spPr>
          <a:xfrm>
            <a:off x="1357200" y="428760"/>
            <a:ext cx="6929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Kristen ITC"/>
              </a:rPr>
              <a:t>Prezentację przygotowała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Kristen ITC"/>
              </a:rPr>
              <a:t>Klaudia Kabała uczennica kl. II a</a:t>
            </a:r>
            <a:br>
              <a:rPr sz="5400"/>
            </a:br>
            <a:r>
              <a:rPr b="1" lang="pl-PL" sz="5400" spc="-1" strike="noStrike">
                <a:solidFill>
                  <a:srgbClr val="ffffff"/>
                </a:solidFill>
                <a:latin typeface="Kristen ITC"/>
              </a:rPr>
              <a:t>Gimnazjum nr 2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pl-PL" sz="5400" spc="-1" strike="noStrike">
                <a:solidFill>
                  <a:srgbClr val="ffffff"/>
                </a:solidFill>
                <a:latin typeface="Kristen ITC"/>
              </a:rPr>
              <a:t>im. J. Piłsudskiego w Koniecpolu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prekursor walki o prawa dziecka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twórca nowoczesnego antyautorytarnego systemu wychowania, opartego na różnych formach dziecięcego samorządu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lekarz z wykształcenia i zawodu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pisarz z talentu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Garamond"/>
              </a:rPr>
              <a:t>wychowawca i pedagog z powołania i wybor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korczak"/>
          <p:cNvPicPr/>
          <p:nvPr/>
        </p:nvPicPr>
        <p:blipFill>
          <a:blip r:embed="rId1"/>
          <a:stretch/>
        </p:blipFill>
        <p:spPr>
          <a:xfrm>
            <a:off x="6804000" y="404640"/>
            <a:ext cx="15271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648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pl-PL" sz="3600" spc="-1" strike="noStrike">
                <a:solidFill>
                  <a:srgbClr val="ffffff"/>
                </a:solidFill>
                <a:latin typeface="Garamond"/>
              </a:rPr>
              <a:t>A zaczęło się tak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Urodził się 22 lipca 1878 albo 1879 roku -zaniedbanie przez ojca (adwokata!) formalności metrykalnyc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domu miał dobry przykład- jego dziadek - doktor Hersz był chirurgiem w Szpitalu Starozakonny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Hrubieszowie, działaczem społecznym, rzecznikiem szerzenia postępu i oświaty wśród Żydów. Także jego ojciec, Józef, udzielał się w pracy charytatywnej</a:t>
            </a:r>
            <a:r>
              <a:rPr b="1" lang="pl-PL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24904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Już we wczesnej młodości trapiły go dylematy moralne, które z czasem stały się fundamentem najważniejszych decyzji życiowych.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Jestem nie po to, aby mnie kochali i podziwiali, ale po to, abym ja działał i kochał. Nie obowiązkiem otoczenia pomagać mnie, ale ja mam obowiązek troszczenia się o świat, o człowieka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"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16365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W 1891-1898 uczył się w Praskim Gimnazjum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w którym panowała żelazna dyscypl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Dorastanie i dojrzewanie przebiegało w trudnych warunkach materialnych. Po śmierci ojca w 1890r. jako uczeń V klasy udzielał korepetycji, by pomóc w utrzymaniu rodzin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1898-1904 studiował na Wydziale Lekarskim Cesarskiego Uniwersytetu Warszawskiego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Latem 1899 roku pojechał do Szwajcarii, aby bliżej poznać działalność i twórczość pedagogiczną Pestalozziego. Zwiedzając kraj, szczególnie interesował się szkołami, szpitalami dla dzieci, a także bezpłatnymi czytelniami pism dla dzieci i młodzież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Podjął pracę lekarza w Szpitalu dla Dzieci im. Bersonów i Baumanów, gdzie  na każde wezwanie udawał się do chorego. Współpracował z Samuelem Goldflamem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z którym podjął szeroką działalność społeczn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W 1907 pojechał na rok do Berlina, aby uzupełnić swe wiadomości medyczne. Słuchał wykładów (za które sam płacił) i odbywał praktykę w klinikach dziecięcych; zwiedzał też różne zakłady wychowawc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Był współtwórcą (z Marią Falską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1" lang="pl-PL" sz="2800" spc="-1" strike="noStrike">
                <a:solidFill>
                  <a:srgbClr val="ffffff"/>
                </a:solidFill>
                <a:latin typeface="Garamond"/>
              </a:rPr>
              <a:t>i kierownikiem Domu Sierot dla dzieci żydowskich w Warszawie (1912-1942) , polskich (1919-1936), gdzie stosował nowatorskie metody pedagogiczn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imagesq"/>
          <p:cNvPicPr/>
          <p:nvPr/>
        </p:nvPicPr>
        <p:blipFill>
          <a:blip r:embed="rId1"/>
          <a:stretch/>
        </p:blipFill>
        <p:spPr>
          <a:xfrm>
            <a:off x="4067280" y="5661000"/>
            <a:ext cx="139860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68000" y="549000"/>
            <a:ext cx="687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Janusz Korczak zginął wraz ze swymi wychowankami wywieziony z getta w 1942, dobrowolnie towarzysząc im w drodze na śmierć w komorze gazowej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Miał możliwość ucieczki z get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7" descr="fot-korczak"/>
          <p:cNvPicPr/>
          <p:nvPr/>
        </p:nvPicPr>
        <p:blipFill>
          <a:blip r:embed="rId1"/>
          <a:stretch/>
        </p:blipFill>
        <p:spPr>
          <a:xfrm>
            <a:off x="468360" y="3500280"/>
            <a:ext cx="4421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7:28:52Z</dcterms:created>
  <dc:creator>ASIA</dc:creator>
  <dc:description/>
  <dc:language>en-US</dc:language>
  <cp:lastModifiedBy>zx</cp:lastModifiedBy>
  <dcterms:modified xsi:type="dcterms:W3CDTF">2012-01-15T17:21:50Z</dcterms:modified>
  <cp:revision>23</cp:revision>
  <dc:subject/>
  <dc:title>Slajd 1</dc:title>
</cp:coreProperties>
</file>